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168-B821-4B1A-BC04-9EA8ADF5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58C-801A-42C8-B6C6-0DC916E0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DB0-663F-4872-8C0D-81A728CC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B33C-6235-46BD-928A-5C0CE557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262-81F3-4FB5-99C9-56D882B9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AD4-4853-406B-B380-FDF65B95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5597-EA29-4233-BCD6-0466AE62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DE4-0A88-4D04-B720-316B5E0F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D31-262E-4FCE-A75E-65B44B0A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9C1A-EEA4-4ECF-A3A6-628BF485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BA7B-4957-4671-9298-59DF35DF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E50-3798-4E26-9C1B-12980FC5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693900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8DE6-96DC-4A46-9865-3450E871E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74640" y="5029200"/>
            <a:ext cx="1981440" cy="15238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94160" y="380880"/>
            <a:ext cx="2057400" cy="161460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79760" y="1981080"/>
            <a:ext cx="2057400" cy="15382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37160" y="1981080"/>
            <a:ext cx="2057400" cy="15382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9040" y="3505320"/>
            <a:ext cx="1981440" cy="15238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9040" y="3505320"/>
            <a:ext cx="1981440" cy="15238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22760" y="380880"/>
            <a:ext cx="152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Who is the charact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13280" y="205740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What did the character d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94360" y="2057400"/>
            <a:ext cx="103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Why did he do i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64360" y="76320"/>
            <a:ext cx="193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- 16"/>
              </a:rPr>
              <a:t>The Wave</a:t>
            </a:r>
            <a:r>
              <a:rPr b="0" lang="en-US" sz="1200" spc="-1" strike="noStrike">
                <a:solidFill>
                  <a:srgbClr val="000000"/>
                </a:solidFill>
                <a:latin typeface="Arial - 16"/>
              </a:rPr>
              <a:t> Attribut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46240" y="3505320"/>
            <a:ext cx="130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Why is the character's name well chosen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1360" y="3505320"/>
            <a:ext cx="13636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What is the nature of this character's actions?</a:t>
            </a:r>
            <a:r>
              <a:rPr b="0" lang="en-US" sz="800" spc="-1" strike="noStrike">
                <a:solidFill>
                  <a:srgbClr val="000000"/>
                </a:solidFill>
                <a:latin typeface="Arial - 10"/>
              </a:rPr>
              <a:t>(reactive, active, important, consequential, seconda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56480" y="3505320"/>
            <a:ext cx="14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What is the significance of the book's time and place to the charact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3240" y="5105520"/>
            <a:ext cx="140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What is unusual or improtant about the charact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60640" y="5105520"/>
            <a:ext cx="1355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How does the character change in the stor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42080" y="5105520"/>
            <a:ext cx="15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Does the character remind you of another character from another book? Wh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99480" y="5105520"/>
            <a:ext cx="1388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Do you know anyone similar to this charact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70480" y="3505320"/>
            <a:ext cx="1981080" cy="15238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51560" y="3505320"/>
            <a:ext cx="1981080" cy="15238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56080" y="5029200"/>
            <a:ext cx="1981080" cy="15238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37160" y="5029200"/>
            <a:ext cx="1981080" cy="15238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8240" y="5029200"/>
            <a:ext cx="1981440" cy="15238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94160" y="609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56080" y="23623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ried to get everyone in The W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37160" y="24382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nt to get the football team in it so they could possibly win some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65360" y="3809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had a big role in the book and I liked his attitude towards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70480" y="41911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the wide receiver for the football team and he is very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27880" y="388620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in 1969 and they wanted to know how did it feel for the J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74640" y="556272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very nice and he will think of things to get help for people or his football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2040" y="556272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irst he didn’t believe in it and towards the end he got outrages with it like he hit his girlfriend beca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37160" y="571500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Gerald from forged by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8240" y="5562720"/>
            <a:ext cx="198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94560" y="56307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my little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22:00:24Z</dcterms:created>
  <dc:creator>Richland School District Two</dc:creator>
  <dc:description/>
  <dc:language>en-US</dc:language>
  <cp:lastModifiedBy>Richland School District Two</cp:lastModifiedBy>
  <dcterms:modified xsi:type="dcterms:W3CDTF">2011-03-31T13:57:42Z</dcterms:modified>
  <cp:revision>3</cp:revision>
  <dc:subject/>
  <dc:title>Slide 1</dc:title>
</cp:coreProperties>
</file>